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3F47-98D3-41E1-BCC0-A8F8332ED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DAF-418C-4DCB-AEA8-9855E876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D06-FACB-42CF-B3C0-9BE694DF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495-E683-487D-AB89-D4D11E32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AD2-5D82-4698-A534-C6EE4FA1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E8CB-CEC7-4635-8498-296960D1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7A8B-029E-4264-8CBB-6AE1E0F6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7074-F7E5-4135-AD3B-A418EBCB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8C7E-05CF-4854-96EC-9A5A10FB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B1F3-343B-4030-BAFE-5EFCE778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BA6E-984F-4887-A819-52E88E77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9F3F-F85A-4ABD-97DB-4F447641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B4A-81F7-48DB-B26B-22E6261D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DF81-15D4-4C93-8E5E-A3ECBCA7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5D34-923B-4BEE-A96B-1D031DD9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F2B8-45B2-4A5D-A09D-CE1C4AC1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48FC-77FB-47C5-81A4-7C7BCCE5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0B24-CD04-4A10-A584-7C97B461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9EA-11B4-40ED-8B36-BFFD0341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8BB-39A7-4BBC-A6D3-F994EF93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24F-E21F-4111-BD36-852D6556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062-AD32-4676-A933-3DBB446B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3C1-B6CA-45DE-83A9-AA6C7CF9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CA8F-2A59-4AE1-916E-ED8CBA45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DAF-0AA6-46F2-B2F1-DC85432C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9D3F-5B62-4607-AC81-266FB62C682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F841-74EA-4047-8055-DB6EAD2121C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Overview of Web 2.0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al Technology Applications in the Classro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477160" y="4724280"/>
            <a:ext cx="37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ather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FF Coach – Stroudsburg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brown@ciu20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at is Web 2.0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as it coin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said i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eb 1.0 vs. Web 2.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572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cation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ol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censed or purch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cre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rietary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righted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collabor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" y="6051600"/>
            <a:ext cx="85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: Solomon, G., &amp; Schrum, L. (2007)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Web 2.0: New tools, new school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Eugene, OR: 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Framework for 21</a:t>
            </a:r>
            <a:r>
              <a:rPr b="0" lang="en-US" sz="4000" spc="-1" strike="noStrike" baseline="30000">
                <a:solidFill>
                  <a:srgbClr val="999900"/>
                </a:solidFill>
                <a:latin typeface="Garamond"/>
              </a:rPr>
              <a:t>st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Century Learning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29800" cy="4962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3440" y="6375240"/>
            <a:ext cx="770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21stcenturyskills.org/route21/index.php?option=com_content&amp;view=article&amp;id=5&amp;Itemid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Stud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Teach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              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Bloom’s Taxonomy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1956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    2001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160020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3f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ynthe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84d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61c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49c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reh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2e8e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9194b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228600" y="13716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29200" y="1600200"/>
          <a:ext cx="3809880" cy="45324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98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214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003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002a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267080" y="1219320"/>
            <a:ext cx="609840" cy="5181480"/>
          </a:xfrm>
          <a:prstGeom prst="upArrow">
            <a:avLst>
              <a:gd name="adj1" fmla="val 50000"/>
              <a:gd name="adj2" fmla="val 2124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53:24Z</dcterms:created>
  <dc:creator>SASD</dc:creator>
  <dc:description/>
  <dc:language>en-US</dc:language>
  <cp:lastModifiedBy>PA Department of Education</cp:lastModifiedBy>
  <dcterms:modified xsi:type="dcterms:W3CDTF">2009-01-19T01:09:54Z</dcterms:modified>
  <cp:revision>17</cp:revision>
  <dc:subject/>
  <dc:title>Overview of Web 2.0 </dc:title>
</cp:coreProperties>
</file>