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492D-E6AF-4B6D-BCFE-D230EB5D8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897-BE83-4D45-AFE5-B34D9980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520-43AC-4296-9AD4-0602C128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E31-783D-4030-8683-B5C436DA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15C-39CF-47BB-9728-72E96E1C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1BB7-A79A-43D7-90FF-5A670169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C439-BEB8-4F5C-851F-E3961843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B259-D25E-42FE-9DC9-8F13D534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0631-6409-4FEA-8C79-22B9E568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B051-6AC2-458A-BB4A-E09CFF2E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9683-0F10-4949-B872-6FF35A5C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EF0B-463B-4C05-BAFD-488BE61D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22B-F324-4BF5-94FC-46C147FC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A658-F8DF-44F9-BD85-4D3462DD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294E-20CE-4FED-982F-4A18CC28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094B-C98E-4403-A165-2184EA04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0098-B8A6-4395-8142-8C1ACD26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A2DC-001C-42E2-8EB0-D68323BF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B8D-A933-4966-801B-8B172C77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837-3D0C-4D37-9818-E8C6DDF5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B10-49AB-499F-B201-8AA0A08E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B26-B08C-420A-BBBF-E032773C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C80-6BCE-49A6-A62B-AD3FBBC5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DE8-097E-4500-8F8A-EBF85FA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1EA-AF68-464B-BC34-B9D5F01C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2792-6407-42AC-BF14-925CB8B998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DE58-64F4-47FB-9E82-E9DCD38462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Overview of Web 2.0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al Technology Applications in the Classro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477160" y="4724280"/>
            <a:ext cx="37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ther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F Coach – Stroudsburg 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brown@ciu20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hat is Web 2.0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s it coin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said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eb 1.0 vs. Web 2.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572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ol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censed or purch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cre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rietary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ba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ollabo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r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" y="6051600"/>
            <a:ext cx="85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: Solomon, G., &amp; Schrum, L. (2007)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Web 2.0: New tools, new schoo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Eugene, OR: 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Framework for 21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st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Century Learning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29800" cy="4962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3440" y="6375240"/>
            <a:ext cx="770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21stcenturyskills.org/route21/index.php?option=com_content&amp;view=article&amp;id=5&amp;Itemid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Stud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TS for Teach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              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Bloom’s Taxonomy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1956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    2001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160020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3f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ynthe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84d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61c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49c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reh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2e8e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9194b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228600" y="1371600"/>
            <a:ext cx="7632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29200" y="1600200"/>
          <a:ext cx="3809880" cy="45324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3c1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986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aly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214b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003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002a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267080" y="1219320"/>
            <a:ext cx="609840" cy="5181480"/>
          </a:xfrm>
          <a:prstGeom prst="upArrow">
            <a:avLst>
              <a:gd name="adj1" fmla="val 50000"/>
              <a:gd name="adj2" fmla="val 2124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53:24Z</dcterms:created>
  <dc:creator>SASD</dc:creator>
  <dc:description/>
  <dc:language>en-US</dc:language>
  <cp:lastModifiedBy>PA Department of Education</cp:lastModifiedBy>
  <dcterms:modified xsi:type="dcterms:W3CDTF">2009-01-19T01:09:54Z</dcterms:modified>
  <cp:revision>17</cp:revision>
  <dc:subject/>
  <dc:title>Overview of Web 2.0 </dc:title>
</cp:coreProperties>
</file>