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44B4-83F4-449B-AC78-8F72E5AFA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E36-797A-4EFC-841B-1FB74990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AC8-3CC6-4926-BDFE-7142DFC0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6F1-09F7-4408-A2DA-BEE104C0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0FB-1AAE-4308-8125-FAC06873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238A-81C5-45F5-AA16-C37D9CD6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049E-0A2E-48CA-B234-38DA4979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7CF8-9627-4B34-8EAE-993DE18B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C287-47A3-4E9F-A6BE-CF2B6009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D8CD-2D46-4AB9-AB56-2F7204EB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EC18-2C0E-452B-9A56-0576A9FE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86D3-92CD-4F3D-B279-865B35B2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060-9955-4274-A6C6-5FAC1BEC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6656-664A-45B7-A508-4ABBFFF6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D8CC-F797-4014-9973-FACF8AF3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F323-3924-40D6-A472-2C018357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BAF9-8D37-42C6-961A-3468621B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C3A2-2221-4F36-A991-C2E4A1A5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C9A-3509-497E-8A1A-D50D600E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E09-567E-4914-9C94-9EC91AB4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806-D90A-47F8-A697-4F4BB970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57A-5FEA-42B7-941F-2FB6E21F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4A3-8B96-44E2-9D02-F9EB4C62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748-303C-4256-A1C5-FC3E1B6B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725-486E-492B-BC35-BB9294D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45F7-7818-4837-9393-A1275728CD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4B20-BF60-440F-8630-F3A41D9848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9:54Z</dcterms:modified>
  <cp:revision>17</cp:revision>
  <dc:subject/>
  <dc:title>Overview of Web 2.0 </dc:title>
</cp:coreProperties>
</file>