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623B-6DA7-4419-84E0-74C23B4D7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37D-3D4F-423D-B623-1D4FA1FA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90C-D443-480B-9DD9-F2181916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BF0-8927-4A64-94CD-A4FE6C97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A71-8AC0-47F4-AFE0-7B4F5402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CD13-8A9D-4F0C-9ECA-E26C37B9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EFC6-4DFE-4DC3-A05F-0624C3D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B046-E4B5-4B27-BF06-B4EDDB1A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F4B5-2633-4E38-9FA7-6F9383FE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4A0-FBCF-4DB2-B4B4-E2FA9534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D7F-C36B-4132-89E4-58D9910B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AEC0-A00C-4077-8E12-AA19B6C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187-E9E7-42D0-A6BD-3B0BCA48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1E82-2D6F-4049-B4FF-D958F59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AE3B-B72E-4ABB-AAE7-864D266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5DB-DA91-42A7-AE1B-5677973E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E9D1-211E-464D-993B-A0812093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6863-7B8F-48E4-B483-D0C136E0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C08-0C8C-489E-8770-F4AC2D1E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ECB-BCF8-4918-8F58-AE6EDE06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43C-183D-459A-8080-D6A3F1F5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607-D42C-4141-AE84-B3EA396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70B-ECE8-40F0-8779-7E93CD84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739-B09C-4AAF-98CF-B6FA416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A07-D88E-41D8-A85C-A468FAD5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349D-C292-4299-A4C0-CF2857C977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4C47-E735-445C-8FBE-EFB8A647F0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9:54Z</dcterms:modified>
  <cp:revision>17</cp:revision>
  <dc:subject/>
  <dc:title>Overview of Web 2.0 </dc:title>
</cp:coreProperties>
</file>