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F0B-3EF7-4F44-8A3B-ECD5ECDB6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33B-5607-4F71-A5C6-EFDB601D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E89-9E06-4DE9-95CF-5FF3B780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AFD-393A-4202-AF64-12EE78C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D02-5D66-4319-A565-22EA3299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07A2-78E1-4DF2-B12E-3C20A28A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DEA7-B77D-41CD-8903-7082B2BD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733E-445F-4BA8-A697-C887C2A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9D74-5A24-4EFA-9CE3-BBD40D6D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B5CD-8AE8-4B98-9D33-F4F4D23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9103-E0E1-4C7E-BE63-1033EE8C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193-B280-483B-9ABA-55460F0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63B-5256-4E1E-86CB-E85A182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BFE8-B579-43F5-9476-2B46DA3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C48-CD28-45A7-B7C1-24D3486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4029-EBE9-4943-AAB7-070A878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A99-340B-4029-B06E-441F7E27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EBA-FDC2-4D9F-A6EB-E9072D63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D01-A744-42FC-B09E-4CF604CF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5FC-28B2-4E7E-8934-B02A7F2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336-2E33-45B0-A8C2-FE2EEA5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137-B5C8-4940-82AF-97933C7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641-B264-41DB-92A5-166E0B3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637-415B-407E-BDF1-34046F1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618-8A17-41E2-8D6A-C1180751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59F-7FDA-4C26-A03D-5758CE0CD4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C315-2F0E-4115-B3F2-2360B1A6D0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0:27Z</dcterms:modified>
  <cp:revision>16</cp:revision>
  <dc:subject/>
  <dc:title>Overview of Web 2.0 </dc:title>
</cp:coreProperties>
</file>