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0E88-8ED3-419C-A66D-64167E4DF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2057-0395-4AED-AD18-D9735C8C2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4F61-D83E-420B-A37D-CFBB282F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F162-643F-4446-B979-883500993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B960-E3D3-462D-A0B1-35F56AC22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B396-B1A8-49D9-8BA3-59587B08C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587B-FEAA-4E44-AE9F-33777882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76C1-A64C-458A-AD89-AEBFCC33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7627-A54E-4263-AFA6-ADA355DE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5C2F-C763-4BE0-AD7B-817F1BC9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8A1D-933E-4B83-9CD4-9FDB82DB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7687-407E-4F26-81BE-6D03AAF4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62B5-F249-4189-B9DA-752F7BC0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82C1-D882-4389-840F-9E4EB4A8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B2D4-92E7-40AA-89AF-5185673B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74D1-3D2D-4DCD-9F32-F4A14B0C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3512-E60B-4BE7-85B7-85360EAD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8C78-DBB2-456A-9E4B-AB4A2FD8C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00E0-A450-47EB-B96B-9C77350B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6A09-8234-4684-93BA-CB49BF06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9E66-3F55-4E57-A107-60C8F032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58CC-535F-4C70-8EF9-C8D661D8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A9D8-1B45-4E9B-BCEF-53474552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E38F-BEFF-44E5-8865-8AA2E646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4C4A-7EDC-462F-A035-25308946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5B76-C47E-4883-B66A-B8CFC971503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A38F-C274-4F8E-B497-6DCB3D386DD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Overview of Web 2.0 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ucational Technology Applications in the Classro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2477160" y="4724280"/>
            <a:ext cx="374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ather Br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FF Coach – Stroudsburg 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brown@ciu20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What is Web 2.0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was it coine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o said i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Web 1.0 vs. Web 2.0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572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lication ba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ola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f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censed or purcha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gle crea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rietary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pyrighted mate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6560" y="167652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 ba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labora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ple collabor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ared cont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" y="6051600"/>
            <a:ext cx="85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urce: Solomon, G., &amp; Schrum, L. (2007).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Web 2.0: New tools, new schools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Eugene, OR: IS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Framework for 21</a:t>
            </a:r>
            <a:r>
              <a:rPr b="0" lang="en-US" sz="4000" spc="-1" strike="noStrike" baseline="30000">
                <a:solidFill>
                  <a:srgbClr val="999900"/>
                </a:solidFill>
                <a:latin typeface="Garamond"/>
              </a:rPr>
              <a:t>st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Century Learning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8029800" cy="4962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23440" y="6375240"/>
            <a:ext cx="770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21stcenturyskills.org/route21/index.php?option=com_content&amp;view=article&amp;id=5&amp;Itemid=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TS for Studen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47712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TS for Teacher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                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Bloom’s Taxonomy</a:t>
            </a:r>
            <a:br>
              <a:rPr sz="4000"/>
            </a:b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 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1956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    2001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04920" y="1600200"/>
          <a:ext cx="3809880" cy="452592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valu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3f1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ynthe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484d6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aly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61cb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pli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49c3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prehe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e2e8e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owled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19194b"/>
                    </a:solidFill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228600" y="1371600"/>
            <a:ext cx="7632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029200" y="1600200"/>
          <a:ext cx="3809880" cy="453240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e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3c1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valu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986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alyz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214b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p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0030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derst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002a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me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4267080" y="1219320"/>
            <a:ext cx="609840" cy="5181480"/>
          </a:xfrm>
          <a:prstGeom prst="upArrow">
            <a:avLst>
              <a:gd name="adj1" fmla="val 50000"/>
              <a:gd name="adj2" fmla="val 21241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5:53:24Z</dcterms:created>
  <dc:creator>SASD</dc:creator>
  <dc:description/>
  <dc:language>en-US</dc:language>
  <cp:lastModifiedBy>PA Department of Education</cp:lastModifiedBy>
  <dcterms:modified xsi:type="dcterms:W3CDTF">2009-01-19T01:00:27Z</dcterms:modified>
  <cp:revision>16</cp:revision>
  <dc:subject/>
  <dc:title>Overview of Web 2.0 </dc:title>
</cp:coreProperties>
</file>