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74DD-1724-4686-AFBC-B87DD9F33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6F9-3866-420B-8979-E6BD5CF9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CFCD-3086-4D28-BF71-9D53C505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DA88-6C40-4DBA-81B4-C3EFBDF6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5E6-BD8F-452A-8847-E37E5386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0C94-1198-46B1-85A7-0893FC75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7A17-F89F-49A4-BBFD-90532C3A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4174-BE81-42EC-BB2D-6CBD6941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5D54-2737-4780-9345-FA2364D1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034B-6CE6-4DF4-9900-9B65FA5B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66EA-2FB4-450A-9E85-E1E0DF79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9503-7B46-4385-9205-93F4BD14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0568-3451-4ED0-8B4F-004EC9AC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3DC7-0679-4ACB-94DB-188A32D1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3F93-1D40-4DEC-AB9C-C2B2C68B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56E6-2423-4CA7-97FE-E57C7AD5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ADB0-E279-4F4E-93CF-E61B2C1C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2D5F-F19A-427A-83D9-FA0C9F60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142-7BA2-49FE-9523-2CD16E89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606-AC76-4BBB-B6D1-4D18C5B6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7771-B8EE-450E-A5FC-EBAA44D8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70B-6B3C-46B5-9BDF-0CB46D1B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5BC-E9B2-4FED-A5CB-B8A171B2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C98-2C11-42A2-8BE6-5298F6FE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39FB-3BFF-4D21-8690-F60EF0E2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FDA9-6363-4FB5-8517-8AE3928D566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1593-B0AF-4FA9-9242-79E3E065F52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Overview of Web 2.0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al Technology Applications in the Classro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477160" y="4724280"/>
            <a:ext cx="37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ather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FF Coach – Stroudsburg 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brown@ciu20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hat is Web 2.0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was it coine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said i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eb 1.0 vs. Web 2.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572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ication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ol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censed or purch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gle cre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rietary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righted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6560" y="16765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abor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collabor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d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" y="6051600"/>
            <a:ext cx="85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: Solomon, G., &amp; Schrum, L. (2007)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Web 2.0: New tools, new school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Eugene, OR: I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Framework for 21</a:t>
            </a:r>
            <a:r>
              <a:rPr b="0" lang="en-US" sz="4000" spc="-1" strike="noStrike" baseline="30000">
                <a:solidFill>
                  <a:srgbClr val="999900"/>
                </a:solidFill>
                <a:latin typeface="Garamond"/>
              </a:rPr>
              <a:t>st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Century Learning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029800" cy="4962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3440" y="6375240"/>
            <a:ext cx="770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21stcenturyskills.org/route21/index.php?option=com_content&amp;view=article&amp;id=5&amp;Itemid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TS for Stud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TS for Teach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              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Bloom’s Taxonomy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1956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    2001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1600200"/>
          <a:ext cx="3809880" cy="45259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3f1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ynthe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84d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aly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61cb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49c3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reh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2e8e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wle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9194b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228600" y="137160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29200" y="1600200"/>
          <a:ext cx="3809880" cy="45324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3c1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98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aly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214b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0030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erst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002a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m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267080" y="1219320"/>
            <a:ext cx="609840" cy="5181480"/>
          </a:xfrm>
          <a:prstGeom prst="upArrow">
            <a:avLst>
              <a:gd name="adj1" fmla="val 50000"/>
              <a:gd name="adj2" fmla="val 2124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5:53:24Z</dcterms:created>
  <dc:creator>SASD</dc:creator>
  <dc:description/>
  <dc:language>en-US</dc:language>
  <cp:lastModifiedBy>PA Department of Education</cp:lastModifiedBy>
  <dcterms:modified xsi:type="dcterms:W3CDTF">2009-01-19T01:00:27Z</dcterms:modified>
  <cp:revision>16</cp:revision>
  <dc:subject/>
  <dc:title>Overview of Web 2.0 </dc:title>
</cp:coreProperties>
</file>