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BEA5-139B-4F50-B9AF-A259A1D68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E9C-D993-450F-8770-A4525BEF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EA5-73C6-4EA7-AD81-A6F684FD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FA1-04DB-4D8B-A2CA-D55056F0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5DB-6496-4052-A7F7-41F7E84F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0042-C606-4EC1-A1AD-A035633C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03D4-6FEB-46EE-81EC-E29DC707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BD3-A6CA-41E1-9C1D-DC76EFF0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2AB0-40DE-49A2-B0E8-A2173867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BB68-30FE-402E-BB82-ACB9BC9C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36A-6EAA-4DA6-A5E5-D4CA53DB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8E30-67F7-4029-8318-1099B88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3A5-B3CB-4D22-8F87-44111E2E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BA0F-7FDF-4BB8-8F8B-FF643776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211D-6096-4E67-BEDF-123DBAFB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7656-4689-44DA-8B49-53E1C9F4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94CF-E93C-4A46-8B64-92E1342B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519A-667B-4C86-B79F-2FC5BC17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3E8-9A26-4B73-8CC9-D57D9DA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993-E9BB-46B2-97D4-961212DF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580-F22C-4072-A4C7-967479FF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222-E883-412A-BB07-786E875A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415-F8BD-4384-8135-EF82034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E1F-829F-424F-86F9-33047D42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6B0-CCCE-4FDA-A0D5-4EC580B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0883-E227-49CC-A0A3-D6D952E54B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1624-7283-41D7-BAB3-3876EB3E2F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0:27Z</dcterms:modified>
  <cp:revision>16</cp:revision>
  <dc:subject/>
  <dc:title>Overview of Web 2.0 </dc:title>
</cp:coreProperties>
</file>