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7B2E6-E455-4571-88F2-5AE021BF1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1B62-6BF7-46E5-8DB3-48D0CD042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5CDB-A107-498F-B3C8-B401FC231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C924-2201-4D0B-B511-9071A08B8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C5E3-0772-4DAF-81D9-3A4F672DB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6FE71-5962-4CF1-9542-2CD1E0072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AEDE7-03EE-42F3-BD07-5F4FE8C99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83316-FC31-4D30-8117-E70886417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F113D-4310-412F-8BCE-3B96309CD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D1683-E309-406E-A897-CE33C4AB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15749-D776-41FF-8C0F-D32D00766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D8686-BA37-4983-8DBF-0099CA2F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8672-0542-493D-B486-80FCD5864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16B1E-CB55-45B5-BBA6-7548BA76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97CEA-3E85-4CE3-81A5-4C5DA46A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A040B-035F-4164-B694-0F620BD01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76474-46BB-4528-90A4-AAA9660BE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0EE43-E5C6-47DF-BEC8-7543D5AB7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7BB8-C05C-4C8D-BFB6-30D618441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D8ED-9705-4666-8103-E813AEE32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7A46-2A82-4A86-9E87-9F5183A3A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11DA-737A-4C9D-ABDB-76AE8768A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414C-7CBE-45D1-9A8C-BF1BCE9B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0947-0A23-4026-BCF2-BC889B23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C7D2-1EE4-45AB-BDFC-445E5291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20B8C-CE9F-4283-9530-FE4AE647946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8F019-FF7C-43BA-99E7-0EE42664BEC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Overview of Web 2.0 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ducational Technology Applications in the Classro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2477160" y="4724280"/>
            <a:ext cx="374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ather Br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FF Coach – Stroudsburg 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brown@ciu20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What is Web 2.0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was it coine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o said it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Web 1.0 vs. Web 2.0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4572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lication ba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ola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fl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censed or purcha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ngle crea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prietary c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pyrighted mater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76560" y="167652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b ba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llabora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ltiple collabor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pen sour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hared cont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" y="6051600"/>
            <a:ext cx="85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urce: Solomon, G., &amp; Schrum, L. (2007).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Web 2.0: New tools, new schools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 Eugene, OR: IS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Framework for 21</a:t>
            </a:r>
            <a:r>
              <a:rPr b="0" lang="en-US" sz="4000" spc="-1" strike="noStrike" baseline="30000">
                <a:solidFill>
                  <a:srgbClr val="999900"/>
                </a:solidFill>
                <a:latin typeface="Garamond"/>
              </a:rPr>
              <a:t>st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 Century Learning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8029800" cy="49626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23440" y="6375240"/>
            <a:ext cx="770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21stcenturyskills.org/route21/index.php?option=com_content&amp;view=article&amp;id=5&amp;Itemid=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NETS for Student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647712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NETS for Teacher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315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                 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Bloom’s Taxonomy</a:t>
            </a:r>
            <a:br>
              <a:rPr sz="4000"/>
            </a:b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  </a:t>
            </a:r>
            <a:r>
              <a:rPr b="0" lang="en-US" sz="4000" spc="-1" strike="noStrike">
                <a:solidFill>
                  <a:srgbClr val="999900"/>
                </a:solidFill>
                <a:latin typeface="Arial"/>
              </a:rPr>
              <a:t>1956</a:t>
            </a:r>
            <a:r>
              <a:rPr b="0" lang="en-US" sz="4000" spc="-1" strike="noStrike">
                <a:solidFill>
                  <a:srgbClr val="9999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999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999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999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99900"/>
                </a:solidFill>
                <a:latin typeface="Arial"/>
              </a:rPr>
              <a:t>    2001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04920" y="1600200"/>
          <a:ext cx="3809880" cy="4525920"/>
        </p:xfrm>
        <a:graphic>
          <a:graphicData uri="http://schemas.openxmlformats.org/drawingml/2006/table">
            <a:tbl>
              <a:tblPr/>
              <a:tblGrid>
                <a:gridCol w="380988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valu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3f1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ynthes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484d6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alys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61cb"/>
                    </a:solidFill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plic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949c3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prehen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e2e8e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owled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19194b"/>
                    </a:solidFill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228600" y="1371600"/>
            <a:ext cx="7632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029200" y="1600200"/>
          <a:ext cx="3809880" cy="4532400"/>
        </p:xfrm>
        <a:graphic>
          <a:graphicData uri="http://schemas.openxmlformats.org/drawingml/2006/table">
            <a:tbl>
              <a:tblPr/>
              <a:tblGrid>
                <a:gridCol w="380988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re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3c1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valu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986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alyz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214b"/>
                    </a:solidFill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p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0030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derst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002a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mem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4267080" y="1219320"/>
            <a:ext cx="609840" cy="5181480"/>
          </a:xfrm>
          <a:prstGeom prst="upArrow">
            <a:avLst>
              <a:gd name="adj1" fmla="val 50000"/>
              <a:gd name="adj2" fmla="val 21241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15:53:24Z</dcterms:created>
  <dc:creator>SASD</dc:creator>
  <dc:description/>
  <dc:language>en-US</dc:language>
  <cp:lastModifiedBy>PA Department of Education</cp:lastModifiedBy>
  <dcterms:modified xsi:type="dcterms:W3CDTF">2009-01-19T01:09:54Z</dcterms:modified>
  <cp:revision>17</cp:revision>
  <dc:subject/>
  <dc:title>Overview of Web 2.0 </dc:title>
</cp:coreProperties>
</file>